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180-50ED-40D3-A02C-1E535D2F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ADF-B00A-43C1-AD85-78CB8576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262-7105-4ACE-8A75-84B0752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A37-37AC-4DE1-B603-A0CA83E7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11B-7C37-4A35-8F8D-25CEE57A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DE9-F370-4021-9733-37FF07C3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D2C-B917-4571-B8D3-2E233E4F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20E-CC40-4E35-806F-EAE3F02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67A-6D5E-4F93-8FB8-A0D82EE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E6A-FFA1-4F62-8A5F-77715516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E2A-B0EE-4DD9-AAB6-D957727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5EA-1369-4A8A-AC46-105913E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1BCC-343B-4351-86B8-2201A2B9324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54208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Futunk, s nem lankadunk meg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Járunk, s nem fáradunk el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Mert az Úr jár előttünk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S az Ő kegyelme nem fogy el!</a:t>
            </a:r>
            <a:br>
              <a:rPr sz="5000"/>
            </a:br>
            <a:br>
              <a:rPr sz="5000"/>
            </a:br>
            <a:br>
              <a:rPr sz="18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040" y="1182600"/>
            <a:ext cx="8817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Magas helyekre szárnyalunk fel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Mint a sas, az ég felé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S mikor jelenlétébe lépünk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Várjuk eljövetelét!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4440" y="1125360"/>
            <a:ext cx="85550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Benned bízunk, ó, Urunk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A Te sátradban van otthonunk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És megújul erőnk</a:t>
            </a:r>
            <a:br>
              <a:rPr sz="5000"/>
            </a:br>
            <a:r>
              <a:rPr b="1" lang="hu-HU" sz="5000" spc="-1" strike="noStrike">
                <a:solidFill>
                  <a:srgbClr val="ffffff"/>
                </a:solidFill>
                <a:latin typeface="Times New Roman"/>
              </a:rPr>
              <a:t>Mert velünk van, Istenünk!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6:06:34Z</dcterms:created>
  <dc:creator>Károlyi János</dc:creator>
  <dc:description/>
  <dc:language>en-US</dc:language>
  <cp:lastModifiedBy>Balázs</cp:lastModifiedBy>
  <dcterms:modified xsi:type="dcterms:W3CDTF">2008-01-24T13:48:55Z</dcterms:modified>
  <cp:revision>3</cp:revision>
  <dc:subject/>
  <dc:title>Futunk, s nem lankadunk meg     Futunk, s nem lankadunk meg Járunk, s nem fáradunk el Mert az Úr jár előttünk S az Ő kegyelme nem fogy el Magas helyekre szárnyalunk fel Mint a sas, az ég felé S mikor jelenlétébe lépünk Várjuk eljövetelét  Benned bízunk, ó, Urunk A Te sátradban van otthonunk És megújul erőnk Mert velünk van, Istenünk  Szóljon az ének</dc:title>
</cp:coreProperties>
</file>